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274B-DC7D-4DDD-A80A-7D71818E4B86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8141-D5E8-492A-B192-080B6364324E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roup of pharmacotherapy that is commonly administered is corticostero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vailable in the form of intranasal (INS) which has more local control in the nasal cavity &amp; also oral corticostero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Corticosteroids especially INS corticosteroids are commonly used in RS. It reduces the inflammation &amp; oedema of the nasal mucous membrane rendering resolution of RS symp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6703-EBF2-4357-B323-19E8E89927AF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3508-024E-44B4-A1F7-3490933B3A7B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9A8F-A252-44E4-A8D1-D18883ED4E5F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n local practice, oral steroids are not given due to the possibility of exacerbation of bacterial 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A412-1DE7-4B5B-9855-2D40EA285017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448B-20A2-458E-B192-8B35849EFC7D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FEAF-403A-4EAB-B379-4E1217524626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Many studies observed on the improvement of mucocliiary clearance as parameters to assess the use of decongest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t is known that the MCC is significantly slower in AB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660C-AE7C-413A-8729-DD1234560C13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F482-BA5B-4EDB-B050-0510F437B051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Viral RS is a self-limiting disease that is managed symptomatically with analgesic or antipyre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aims of pharmacotherapy are to alleviate/reduce severity of symptoms as well as to prevent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648F-AFAB-40D1-AD9C-20BC4025C67B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281F-147D-4689-87E3-63F0F9F200DC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D82E-6595-41F4-BA21-7D5C73BF5401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CC2F-123D-4C9F-BE6B-B822AF1DF5A9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are 4 main groups of the range of medications used in treating RS. Namely antibiotics, corticosteroids &amp; saline irrigations.  While anti-histamine is mainly used specifically in cases with underlying all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n our CPG we have alo include in our discussion a smaller group of medications whereby the administration of which may be of beneficial for the pat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Let us just go through the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0B3A-5B01-418D-BD1E-1D94E73A08C8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use of antibiotics in the treatment of ARS provide minimal to moderate benef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Cochrane meta-analysis: In 2009 – showed a reduced risk of treatment failure in antibiotics comparing to placebo by 34% within 7 to 1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A large prospective cohort study demonstrated reduced risk of treatment failure in patients treated with antibiotics vs without antibiotics (HR=0.3, 95% CI 0.21 to 0.4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Patients with poor orodental condition &amp; those with previous use of antibiotics in the past two months benefited most from this (HR of 0.04 &amp; 0.09 respectivel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49DF-2883-44F5-9A93-68CD53656279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s have higher incidence of adverse events compared with placebo; gastrointestinal upsets being the most common (OR=2.10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5% CI 1.60 to 2.77; NNH=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urope, antibiotics overuse has been reported to have directly resulted in an increased prevalence of antimicrobial resistance in the reg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re are no available data for the Asian region, antimicrobial resistance due to overuse of antibiotics is an international health 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National Surveillance of Antibiotic Resistance (NSAR) Report by Ministry of Health, Malaysia, bot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reptococcus pneumonia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philus influenzae (two of the most common causat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gens of ARS) have shown an increase in antibiotic resistance from 2010 to 2014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able 1 &amp;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2AF6-AD0C-4434-B2FC-E18AD7DFA065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gnificant difference in efficacy between different antibiotics in 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ational Antibiotics Guidelines Second Edition 2014, the preferred antibiotics are amoxicillin &amp; amoxicillin/clavulan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Duration of antibiotic therapy should be as short as possible to reduce possible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-analysis showed that a shorter course of antibiotics (3 to 7 days) was as efficacious as a longer one (6 to 10 day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C03B-62A3-4851-9B27-51E757F6123F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use of antibiotic in CRS, on the other hand has insufficient strong evidence to support its beneficial outc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stematic review used only one small RCT with high risk of bi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ome studies which report improvement in symptoms &amp; reduction in inflammatory markers using long-term macrolides such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ithromycin, clarithromycin &amp; erythromycin at low doses in C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ose studies are not placebo-control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CAD7-A971-4C53-8207-F8F6BE41EAAF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62B-A065-43FD-8CB7-78EC0BF7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1DC-4954-4ED9-80B9-8441B9B1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DEE-CC53-400D-B523-E85A2830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694-BBDF-40F7-8EFC-CB265425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6B66-727A-4DC2-A806-6C9EB215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0757-D7FE-43D9-93A1-E579FB9A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BA90-C84C-4972-BC5A-C50C0909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9DBC-C676-4F40-BD75-DF01ADC3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6E6A-F7D4-42E9-954A-01D86D11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F95E-D3AC-4BC8-B73E-5A423B92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778D-F543-4D01-A0DF-9DCE2FBE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77A-9E01-428E-8A00-0D466BF6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4457-6220-492C-95CF-81CDDF65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AC70-4116-4ADD-9783-145875FA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AD01-DC9A-4AF1-8334-67F42ED3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9346-B0CA-4E2F-A182-912B0715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7C77-0B9F-4218-868B-4B66268B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6172-E212-4394-9335-5590A662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2933-1D2A-433F-B544-03F300AD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00DBE-C33E-4A4E-A4C4-9D0F55C7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8ECF-3D0D-40B5-A745-F4EBB659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5DF7-000F-43C1-B4AE-464AF00E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DD4-F1A8-4783-8B05-3DD9A034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DC35-49A0-409F-B37A-A91737B7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42DD-AC61-47BA-967E-C762590B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183B-C4C2-4707-B22A-45D9AB77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6FEB9-48B7-4ADD-BD4B-15A052C7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BC4A-9FA9-4944-997D-2CBDA1C1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0144-CC8E-47A6-8BE8-E5425D15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5E86-5A82-440B-B9A7-7E3DAABE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D49C2-2619-4A43-88C8-9757C319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3FA7F-9922-49D9-B68B-985DD36C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29DDE-158A-419F-BF2F-8F246200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FFB-7A15-4FDA-BFB5-51FAACAE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9790-4B5C-46F7-875B-416A718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EE84-BCFC-4C4A-88C6-8EBFDAD0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A8B33-0532-407F-AAE5-18ED9D31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CA669-D056-4B3F-B3E5-6961A4B4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367EF-E608-4ECA-87F6-33D2B42D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BD331-C21E-4A28-A4B1-D2205D0E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45DF-B839-462E-97A5-587FB971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F5874-2F30-47FE-BDCA-64A103C6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4D64-B57B-4FA5-93D3-64005741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5C102-A88E-44D6-9E01-54253461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123-08B3-462D-8288-34490C24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78C7D-0CF9-42D3-89EC-5787413B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6D3E6-D981-49F2-89F3-8233E838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B372-51CA-450E-9AF5-826AA43B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2A103-99A1-4DF3-8FFE-A9D16B01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2121C-F881-4B39-ABF0-3F13713B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20971-D2B9-42CA-9587-830A6DB2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3BA44-CD58-419B-A890-FF93749D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B963C-C2B5-48AD-90FE-85104328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3C868-E603-44CA-9B3A-4555AD3B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4BD63-B2C0-4DDF-864A-54F0235F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B49-7C83-4BD4-AC2B-F4D32985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FEECD-D7EC-4E2E-950D-C57D8615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E12EA-8A6B-4B2B-BA4D-A08230AB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59EAE-248B-49AE-9BA0-2073F5C2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AF3A-6B83-4417-90A5-EC020564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722D9-0FEB-49D7-9A47-57D80633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CE4B1-C64D-4026-BA78-5D78001C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85AF8-C7C3-4DA8-A636-D5254CB3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57145-B812-4914-81A3-B14560AE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10CC1-965F-4D57-9894-48D64F11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5A7E5-32C9-4530-8493-3453E79E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A52-1096-4EA4-AECB-6F125193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44F6A-574D-445F-B1C2-60E53BDB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9B66C-B9C0-4152-87D2-E13B7ED4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F34E5-C0D4-455A-BABC-B0708577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CF93B-2986-4819-9490-1956291B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3AA3A-4B67-430B-982E-EC9EBA12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1C825-93B5-4F7A-9BB8-C15ED9A2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147F3-F0AD-4A07-9690-9A45567E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818C9-3306-4712-B1B6-AD73D800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3CB7A-06DC-4710-937C-0B8D2C77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8DC96-67FE-4EA7-A0D7-24270831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673-C525-4F21-ADE8-DFDC36E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C5038-E2FB-4428-AE60-7BE852EE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AE436-4FE1-4A6E-97BA-01430FE3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EFB4A-6C0F-4E13-AA2D-AB978081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47B6E-0A9C-4119-9A36-A10F990C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809CE-2D23-49B7-BCDC-00C412AB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774-077A-4B59-8556-5D2E8E0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5DBF-840F-4F75-A581-8E270E808824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E33B-ED98-4331-A6DA-E81219044C0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249B-EC52-4EF9-99F9-370DC970B683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67F4-09D3-4653-A98A-5FA57DE1EF9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8E6D-A652-48DC-AD16-AB903F480282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8A56-08F4-40B8-8271-1C6DF6DB384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805C-CC21-4645-9343-DA7A06659C1C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1A3E-9D54-4218-BF87-DB54FED8C49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7C34-E8AB-45D9-9795-77B573264CBB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BFD8-D8B1-4DF0-AACC-BB1706788A4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B6A6-E985-4A06-BDFA-1E7C640C0B1B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B2E9-F581-40C0-AD8E-40EDF54CC57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C319-EB8A-4541-88D0-6A1B37528C6B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4198-BDE1-4E4C-886C-B709AB062895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9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MEDICAL THERAPY</a:t>
            </a:r>
            <a:br>
              <a:rPr sz="36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BY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DR.  IDA SADJA’AH SACHLIN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CONSULTANT OTORHINOLARYNGOLOGIST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320e04"/>
                </a:solidFill>
                <a:latin typeface="Gill Sans MT"/>
              </a:rPr>
              <a:t>Training Module CPG Management of Rhinosinusitis in Adolescents &amp; Adul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  <p:sp>
        <p:nvSpPr>
          <p:cNvPr id="3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10BF-60E7-4153-8C46-A9BB102F294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antibiotic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EA1B-50A9-4418-AFE4-D2BD10A18AB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19320" y="2449440"/>
            <a:ext cx="77724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Corticosteroid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tranasal (INS) &amp; or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reduces the inflammation &amp; oedema 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of the nasal mucous membrane rendering resolution of RS symptom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AE39-AC97-4DC6-9460-BBA42204A8F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2214720" cy="2361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4038480" y="37242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3"/>
          <a:stretch/>
        </p:blipFill>
        <p:spPr>
          <a:xfrm>
            <a:off x="6781680" y="3733920"/>
            <a:ext cx="19083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Corticosteroids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8436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mprove patency of  ostiomeatal complex by reduction in mucosal swell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munomodula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68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bilise mast ce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68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lock formation of inflammatory media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68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hibit chemotaxis of inflammatory ce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rcRect l="16579" t="0" r="16757" b="0"/>
          <a:stretch/>
        </p:blipFill>
        <p:spPr>
          <a:xfrm>
            <a:off x="5218200" y="2117880"/>
            <a:ext cx="3494160" cy="350496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1C0A-0ED2-4A81-9DEF-8B65CCB357E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INS corticosteroi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219320" y="990720"/>
            <a:ext cx="7696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500" spc="-1" strike="noStrike">
                <a:solidFill>
                  <a:srgbClr val="000000"/>
                </a:solidFill>
                <a:latin typeface="Gill Sans MT"/>
              </a:rPr>
              <a:t>ARS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2 good meta-analyses showed that INS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significantly improved symptoms of ARS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 compared with placebo in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14 - 21 days.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 However, the effects were smal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Higher doses of mometasone furoate led to better improvement of symptoms. The side effects were mild to moderate</a:t>
            </a:r>
            <a:r>
              <a:rPr b="0" lang="en-MY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n-MY" sz="1600" spc="-1" strike="noStrike" baseline="30000">
                <a:solidFill>
                  <a:srgbClr val="000000"/>
                </a:solidFill>
                <a:latin typeface="Gill Sans MT"/>
              </a:rPr>
              <a:t>34,  35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500" spc="-1" strike="noStrike">
                <a:solidFill>
                  <a:srgbClr val="000000"/>
                </a:solidFill>
                <a:latin typeface="Gill Sans MT"/>
              </a:rPr>
              <a:t>CRS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2 meta-analyses found that INS given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between 16 &amp; 52 weeks duration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 was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more efficacious 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than placeb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Gill Sans MT"/>
              </a:rPr>
              <a:t>Reduction in polyp size with a mean difference of 0.43 (95% CI 0.25 to 0.61)</a:t>
            </a:r>
            <a:r>
              <a:rPr b="0" lang="en-MY" sz="1900" spc="-1" strike="noStrike" baseline="30000">
                <a:solidFill>
                  <a:srgbClr val="000000"/>
                </a:solidFill>
                <a:latin typeface="Gill Sans MT"/>
              </a:rPr>
              <a:t>36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Gill Sans MT"/>
              </a:rPr>
              <a:t>Improvement of symptoms, SMD= - 0.37 (95% CI - 0.60 to - 0.13)</a:t>
            </a:r>
            <a:r>
              <a:rPr b="0" lang="en-MY" sz="1900" spc="-1" strike="noStrike" baseline="30000">
                <a:solidFill>
                  <a:srgbClr val="000000"/>
                </a:solidFill>
                <a:latin typeface="Gill Sans MT"/>
              </a:rPr>
              <a:t>3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Gill Sans MT"/>
              </a:rPr>
              <a:t>No difference in side effect between the INS group &amp; placebo</a:t>
            </a:r>
            <a:r>
              <a:rPr b="0" lang="en-MY" sz="1900" spc="-1" strike="noStrike" baseline="30000">
                <a:solidFill>
                  <a:srgbClr val="000000"/>
                </a:solidFill>
                <a:latin typeface="Gill Sans MT"/>
              </a:rPr>
              <a:t>3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However, there was no difference in endoscopic score between the 2 groups (SMD= -0.37, 95% CI -0.84 to 0.11)</a:t>
            </a:r>
            <a:r>
              <a:rPr b="0" lang="en-MY" sz="2200" spc="-1" strike="noStrike" baseline="30000">
                <a:solidFill>
                  <a:srgbClr val="000000"/>
                </a:solidFill>
                <a:latin typeface="Gill Sans MT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4.  Zalmanovici Trestioreanu A,  et al.  Cochrane Database Syst Rev. 2013;(12):CD00514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5.  Hayward G,  et al.  Ann Fam Med. 2012;10(3):241–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6.  Joe SA,  et al. Otolaryngol - Head Neck Surg. 2008;139(3):340–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7.  Snidvongs K, et al.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Cochrane Database Syst Rev. 2011;(8):CD00927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81D3-9994-460C-B1F1-35C60912DF4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INS corticosteroids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600" y="1523880"/>
            <a:ext cx="740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mmon adverse eff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sal irritation, mucosal bleeding &amp; crus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Lessen the adverse effects b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Propylene glycol contained in the prepar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witching to a aqueous delivery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Concomitant nasal sal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mpliance &amp; correct techniq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22F8-DF39-4615-BC30-9ED7003666C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Technique of INS administ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6E92-31F3-4601-92C5-CDFCAE893B8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E:\Slide\p44.png"/>
          <p:cNvPicPr/>
          <p:nvPr/>
        </p:nvPicPr>
        <p:blipFill>
          <a:blip r:embed="rId1"/>
          <a:stretch/>
        </p:blipFill>
        <p:spPr>
          <a:xfrm>
            <a:off x="1663560" y="1371600"/>
            <a:ext cx="6870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Oral corticosteroids in A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59080" y="1599840"/>
            <a:ext cx="738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Oral corticosteroids (30 mg/day for 7 days) is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significantly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more effective 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an placebo in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improvement of symptoms up to 12 days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ide effects of oral corticosteroids are limited &amp; mild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38, 39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Possibility of exacerbation of bacterial inf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8.  Venekamp RP, et al. Fam Pract. 2012;29(6):706–1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9.  Venekamp RP, et al. CMAJ 2012;184(14):E751–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9FC9-6158-48DB-B61F-BF34FD9F05C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Oral corticosteroids in C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58720" y="1542600"/>
            <a:ext cx="7304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hort-term oral corticosteroids (25 mg/day for 2 weeks) is significantly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more effective 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an placebo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in reduction of nasal polyp size &amp; hyposmia score up to 10 weeks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Oral corticosteroids causes transient suppression of adrenal function &amp; increase bone turnover. 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40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0.  Vaidyanathan S, et al. Ann Intern Med. 2011;154(5):293-30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C688-2993-4AEA-B82C-0A474F7E70C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40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corticosteroids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C6A2-91F1-487C-9987-C398BAD0666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143000" y="2560680"/>
            <a:ext cx="7848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Saline irrig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218960" y="1523520"/>
            <a:ext cx="7715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Facilitates mechanical remov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muc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fective agents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flammatory media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Decreases crus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creases mucociliary clearance (MCC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Nasal saline irrigation is recommended to be used in AR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27E2-959F-49DA-9B58-B68D791940E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4266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000000"/>
                </a:solidFill>
                <a:latin typeface="Gill Sans MT"/>
              </a:rPr>
              <a:t>Learning Objectiv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o differentiate between acute rhinosinusitis &amp; chronic rhinosinusit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o learn on medical treatments available for ARS &amp; C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know the indications &amp; side effects for each medical treatment for ARS &amp; C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33B8-61ED-4C44-A45F-0C6E73DB6DC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Saline irrigation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600" y="1523880"/>
            <a:ext cx="7378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chrane systematic review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aline irrigation was</a:t>
            </a: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 efficacious as a </a:t>
            </a:r>
            <a:r>
              <a:rPr b="0" lang="en-MY" sz="2800" spc="-1" strike="noStrike" u="sng">
                <a:solidFill>
                  <a:srgbClr val="ff0000"/>
                </a:solidFill>
                <a:uFillTx/>
                <a:latin typeface="Gill Sans MT"/>
              </a:rPr>
              <a:t>treatment adjunct</a:t>
            </a: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for managing</a:t>
            </a: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 the symptoms of CRS </a:t>
            </a: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(SMD=1.42, 95% CI 1.01 to 1.84)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no difference </a:t>
            </a: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 the efficacy between isotonic &amp; hypertonic saline irrigation (p= 0.14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1. Harvey R, et al. Evidence-Based Child Heal A Cochrane Rev J 2008;3(3):459–95:CD00639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59AD-7AAE-4881-8736-12A076E0793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Saline irrigation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3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600" y="1523520"/>
            <a:ext cx="7404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dverse events are minor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sal bur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rri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use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8C0E-27EB-4B74-9BEC-EEF02BED65B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saline irrig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FCC4-CDA0-4F18-A778-68C31F5C50B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19320" y="2963880"/>
            <a:ext cx="7696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-histam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There is an increase prevalence of allergic rhinitis (AR) in patients with CRS, although the role of allergy in the development of CRS remains unclear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Antihistamine controls sinusitis symptoms in A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Current data yields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insufficient evidence to recommend antihistamines 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for treatment of CRS in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non-allergic rhinitis 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patient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1, 23, 42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3. Desrosiers M, et al. J Otolaryngol - Head Neck Surg BioMed Central Ltd; 2011;40(SUPPL. 2):99–14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2. Braun JJ, et al. Allergy. 1997;52(6):650–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B733-60C8-4C3B-8012-87910C1E2C3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-histamine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600" y="15235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First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chlorphenarimine, diphenhydram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econd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loratadine, terfenadine, cetriz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ird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fexofenadine, desloratadine, levocetriz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newer generations are less sed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7969-C665-49FA-B71A-13C2DB85C50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anti-histamin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F0D6-69EF-49BE-8B8A-09FF0B1EFC5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219320" y="2771640"/>
            <a:ext cx="777240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Other med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600" y="15235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re is insufficient recent evidence on the following treatment in rhinosinusiti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alges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decongesta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mucolyt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viral ag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7BF6-1001-41A3-ABDA-99DEAAA7233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analgesic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434600" y="15537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Provide symptomatic relief in both viral &amp; bacterial infections of the upper respiratory passages in RS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4DCF-BC60-4D43-82D4-72652A2454B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decongesta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34600" y="17521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MCC improves significantly with oxymetazoline after 20 minute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44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Topical or systemic decongestants may offer additional symptomatic relief in VRS, however their ability to prevent ABRS is unproven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In local context, decongestants is prescribed in AR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19. Rosenfeld RM, et al. Otolaryngol - Head Neck Surg (United States) 2015;152:S1–3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4. Inanli S,  et al. Laryngoscope. 2002;112(2):320–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021E-DA44-4540-884C-9D5448ED96D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decongestants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57C1-B9A6-4ABE-9656-45A145C4A97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219320" y="2685960"/>
            <a:ext cx="77724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cute Rhinosinusitis (ARS), viral or bacterial in origin, is usually treated medicall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Viral 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elf-limiting dise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ymptomatic relief - analgesic or antipyretic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6879-0982-4B75-BB2B-8D3DC19739B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mucolytic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600" y="15235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re is no evidence to support the use of mucolytics in R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mmonly available mucolytic are bromhexine and guaifenesin 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s not proven to be effective in reducing symptoms of sinusit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3FF1-B8A5-45D7-A0BB-2D1AB068009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antiviral agents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34600" y="18284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re is no evidence of antiviral agents used effectively in treating patients with RS.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BA41-396A-4A6B-8C0F-83D4EA161F0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Summary of treatment relevanc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CF97-DF64-4B7E-B0B3-0D60EFC6078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1295280" y="1982880"/>
            <a:ext cx="75931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Medication dosage, indications &amp; special precautions in R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6AE8-44A4-4F29-93F1-70D9A0D23CE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1852560" y="1676520"/>
            <a:ext cx="637704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759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Medication dosage, indications &amp; special precautions in R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F41D-FD7D-4D33-82D9-FEC86F9D3765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60580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152280"/>
            <a:ext cx="749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COMPLEMENTARY &amp; ALTERNATIVE MEDICIN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34960" y="13716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There is limited evidence of herbal medications use as adjunct treatment in AR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50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cupuncture shows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no significant improvement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 in symptoms score, quality of life &amp; CT scan findings compared with conventional treatment in CR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5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3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50. Guo R, et al. Otolaryngol - Head Neck Surg. 2006;135(4):496–506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51. Rössberg E,  et al. Complement Ther Med. 2005;13(1):4–1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FBEE-9E9B-44D6-9DDA-6067D0E8069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1143000" y="4710240"/>
            <a:ext cx="784872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763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572314"/>
                </a:solidFill>
                <a:latin typeface="Gill Sans MT"/>
              </a:rPr>
              <a:t>Management of ARS for primary care &amp; non-ORL cent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4418-98BA-492B-92C4-90D3FE90A6F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2914560" y="914400"/>
            <a:ext cx="4095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Take Home Messag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434960" y="1523520"/>
            <a:ext cx="732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Pharmacotherapy is aimed to alleviate symptoms &amp; prevent complications in 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Beware of antiobiotic resist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Vital important to identify the correct diagnosis &amp; early sign of complic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3B03-FE04-4918-BADF-78D7C186ED0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4456-F2D9-4EF6-ABD8-13DE35C5917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600" y="15537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aims of pharmacotherap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o alleviate symptoms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o prevent com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94EE-18C7-4DE3-BC3A-0F2F527733F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4266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3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500" spc="-1" strike="noStrike">
                <a:solidFill>
                  <a:srgbClr val="000000"/>
                </a:solidFill>
                <a:latin typeface="Gill Sans MT"/>
              </a:rPr>
              <a:t>Range of medications available: 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corticosteroid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nasal saline irrigat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-histamin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others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analges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decongesta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mucoly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antiviral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6F5B-CB25-4823-94D2-3EE8E570D39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2860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600" spc="-1" strike="noStrike">
                <a:solidFill>
                  <a:srgbClr val="572314"/>
                </a:solidFill>
                <a:latin typeface="Gill Sans MT"/>
              </a:rPr>
              <a:t>Antibiotics in AR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600" y="1219320"/>
            <a:ext cx="7404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Minimal to moderate benefi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Cochrane meta-analyse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2009 - a </a:t>
            </a:r>
            <a:r>
              <a:rPr b="0" lang="en-MY" sz="2000" spc="-1" strike="noStrike">
                <a:solidFill>
                  <a:srgbClr val="ff0000"/>
                </a:solidFill>
                <a:latin typeface="Gill Sans MT"/>
              </a:rPr>
              <a:t>reduced risk of treatment failure </a:t>
            </a: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in antibiotics comparing to placebo by 34% within 7 to 15 days (RR=0.66, 95% CI 0.44 to 0.98)</a:t>
            </a:r>
            <a:r>
              <a:rPr b="0" lang="en-MY" sz="2000" spc="-1" strike="noStrike" baseline="30000">
                <a:solidFill>
                  <a:srgbClr val="000000"/>
                </a:solidFill>
                <a:latin typeface="Gill Sans MT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2012 - a </a:t>
            </a:r>
            <a:r>
              <a:rPr b="0" lang="en-MY" sz="2000" spc="-1" strike="noStrike">
                <a:solidFill>
                  <a:srgbClr val="ff0000"/>
                </a:solidFill>
                <a:latin typeface="Gill Sans MT"/>
              </a:rPr>
              <a:t>favourable overall treatment effect </a:t>
            </a: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of antibiotics against placebo (OR=1.25, 95% CI 1.02 to 1.53; NNT=18)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Gill Sans MT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 large prospective cohort study:</a:t>
            </a:r>
            <a:r>
              <a:rPr b="0" lang="en-MY" sz="2200" spc="-1" strike="noStrike" baseline="30000">
                <a:solidFill>
                  <a:srgbClr val="000000"/>
                </a:solidFill>
                <a:latin typeface="Gill Sans MT"/>
              </a:rPr>
              <a:t>28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ff0000"/>
                </a:solidFill>
                <a:latin typeface="Gill Sans MT"/>
              </a:rPr>
              <a:t>reduced risk of treatment failure </a:t>
            </a: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in patients treated with antibiotics vs without antibiotics (HR=0.3, 95% CI 0.21 to 0.4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patients with poor orodental condition &amp; those with previous use of antibiotics in the past 2 months benefited most from this (HR of 0.04 &amp; 0.09 respectively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6.  Ahovuo-Saloranta A et al.  Cochrane Database Syst Rev. 2008; 2014;2:CD00024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7.  Lemiengre MB, et al.  Cochrane database Syst Rev 2012;10(10):CD00608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8.  Blin P et al. Br J Clin Pharmacol. 2010;70(3):418–2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BB40-7828-4A1F-ABF8-4E696E735A11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biotics in ARS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600" y="15537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dverse effects - mostly gastrointestinal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microbial resistance due to overuse of antibiotics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MY" sz="3200" spc="-1" strike="noStrike">
                <a:solidFill>
                  <a:srgbClr val="000000"/>
                </a:solidFill>
                <a:latin typeface="Gill Sans MT"/>
              </a:rPr>
              <a:t>Streptococcus pneumoniae, Haemophilus influenza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29, 30, 3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1. Fokkens WJ, et al. Rhinology. 2012 Mar;50(23):1-30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9. Ministry of Health M. National Surveillance of Antibiotic Resistance (NSAR). 201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0. Ministry of Health M. National Surveillance of Antibiotic Resistance (NSAR) Report. 201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1. Ministry of Health M. National Surveillance of Antibiotic Resistance (NSAR) Report. 201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1E9D-6070-41DA-98DE-5AAF355B9AA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Antibiotics in ARS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3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re is no significant difference in efficacy between different antibiotics in ARS.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Preferred antibiotics are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amoxicillin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 &amp;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 amoxicillin/clavulanate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 meta-analysis: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a shorter course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f antibiotics (3 to 7 days) was as efficacious as a longer one (6 to 10 days).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8. Falagas ME, et al. Br J Clin Pharmacol. 2009;67(2):161–71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C177-7362-4976-89E2-2B33B52474A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biotics in C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599840"/>
            <a:ext cx="732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sufficient strong evidence to support the routine use of antibiotics in C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Macrolides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administered by ORL specialists in CRS for its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anti-inflammatory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properti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ADE7-E475-4A78-A606-0D81F0FD1FD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22:12:47Z</dcterms:created>
  <dc:creator>DrAmin</dc:creator>
  <dc:description/>
  <dc:language>en-US</dc:language>
  <cp:lastModifiedBy>DrAmin</cp:lastModifiedBy>
  <dcterms:modified xsi:type="dcterms:W3CDTF">2017-10-06T01:52:27Z</dcterms:modified>
  <cp:revision>63</cp:revision>
  <dc:subject/>
  <dc:title>PowerPoint Presentation</dc:title>
</cp:coreProperties>
</file>